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4CA-44F1-43E2-B73B-570E6894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09D-F8C1-4E20-8E74-4A2B62BD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9EF-D256-480A-8215-538A78B2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6F3-5EB8-4F0D-A2EA-F2DADDEB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093-FE85-4A21-B488-5A8D51B0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EF2-E7A3-45CA-8EA0-EA78E5C5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A2F-D7BB-478D-9D0A-9C381733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8C9-0D3D-4234-B520-984A2F36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58E-9F2A-49C9-8B43-CE8C537E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DB6-9729-489C-8117-4F2A72A7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EBD-287D-467C-876D-FF96142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742-EC1A-4D90-A00A-17725B4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7AFB-BE95-4FEC-9CD1-A3CA6F6FDB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E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LOITING AN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onanza W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 to “get rich quick” produces Boom-and-bust economic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ng Bonanz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DIVI7233355"/>
          <p:cNvPicPr/>
          <p:nvPr/>
        </p:nvPicPr>
        <p:blipFill>
          <a:blip r:embed="rId2"/>
          <a:srcRect l="-7546" t="0" r="-7546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ng was first attraction to the west cre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Millions of $ to economy (financed Civil Wa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Relative value of silver and go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States-Nevada, Idaho, Montan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Invasion of Indian reser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Scarring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Geneva"/>
              </a:rPr>
              <a:t>Ghost t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tle Bonanz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DIVI7233357"/>
          <p:cNvPicPr/>
          <p:nvPr/>
        </p:nvPicPr>
        <p:blipFill>
          <a:blip r:embed="rId2"/>
          <a:srcRect l="0" t="-4209" r="0" b="-4209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r West ideal for cattle gra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tle drives take herds to rail heads (Abilene Kans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s take herds to Chicago for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s cowboy culture (50% Mexican and African Americ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1880 wheat farmers begin fencing range ending Cattle ru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ing Bonan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DIVI7233367"/>
          <p:cNvPicPr/>
          <p:nvPr/>
        </p:nvPicPr>
        <p:blipFill>
          <a:blip r:embed="rId2"/>
          <a:srcRect l="0" t="-25843" r="0" b="-2584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70–1890 farm population triples on pl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rbed wire and Dry farming (less then 20 inches of rainfall) lead to  bonanza fa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 because of drought between 1885-18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aning of the W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est was the first American empire and played a profound role in shaping American customs and charact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derick Jackson Turner 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think people expected to find settling in the W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DIVI7233344"/>
          <p:cNvPicPr/>
          <p:nvPr/>
        </p:nvPicPr>
        <p:blipFill>
          <a:blip r:embed="rId2"/>
          <a:stretch/>
        </p:blipFill>
        <p:spPr>
          <a:xfrm>
            <a:off x="990720" y="1752480"/>
            <a:ext cx="716256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shing the Native Americ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65: 250,000 Indians in western U.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placed Eastern Ind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ve Plains Ind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1880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ndians on re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fornia Indians decimated by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1890s Indian cultures crumble from white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ife of the Plains India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1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ins Indians nomadic, hunt buff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lled hors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bes develop warrior cla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ual division of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 gender status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eir loose organization of tribes federal policy becomes mudd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arching for an Indian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an Intercourse Act of 1834 excludes any white from Indian country without a licen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regarded as Indian pre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1850 more whites in Indian country causing several wars between settlers (Sioux War 1865-1867 and 1885-188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bate over Indian poli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small reservation" policy instituted but is considered a fail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DIVI7233346"/>
          <p:cNvPicPr/>
          <p:nvPr/>
        </p:nvPicPr>
        <p:blipFill>
          <a:blip r:embed="rId2"/>
          <a:stretch/>
        </p:blipFill>
        <p:spPr>
          <a:xfrm>
            <a:off x="4495680" y="1828800"/>
            <a:ext cx="4419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 of Tribal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87: Dawes Severalty 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roys communal ownership of Indian 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s small farms to each head of a 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ans who leave tribes become U.S.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-extermination of buffalo devastates Plain Ind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series of wars suppress Ind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battles result in Indian defeat or massac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64 Sand Creek Massacre (John Chivington/Cheyenne India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90 Wounded Knee Massacre (Sioux India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ve Americans go back to reservations for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lement of the W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precedented settlement 1870–19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urney Westward required numerous people with tasks to fulfill along th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Certain treks could take at least 6 month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deral Incen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60–1900: Federal land gr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8 million acres granted under Homestead Act of 186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 million acres sold to private individuals, corpo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8 million acres granted to railroad compan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led because insufficient amount for arid ar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ress offers other incentives to development of difficult areas (most were distributed fraudulent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land acquired by wealthy investors (specula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ber Culture Act of 18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ert Land Act of 187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ber and Stone Act of 187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Reclamation Act 19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 in the W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ships faced by Frontier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Struggle for necess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Lonel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Drough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Extreme temper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Native American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Territorial Gover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6:03:55Z</dcterms:created>
  <dc:creator>CMU</dc:creator>
  <dc:description/>
  <cp:keywords/>
  <dc:language>en-US</dc:language>
  <cp:lastModifiedBy>Thaddeus J. Brooks</cp:lastModifiedBy>
  <cp:lastPrinted>2012-05-30T00:40:02Z</cp:lastPrinted>
  <dcterms:modified xsi:type="dcterms:W3CDTF">2013-10-28T14:12:20Z</dcterms:modified>
  <cp:revision>38</cp:revision>
  <dc:subject/>
  <dc:title>THE WEST:  EXPLOITING AN EMPIRE</dc:title>
</cp:coreProperties>
</file>